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19.xml" ContentType="application/vnd.openxmlformats-officedocument.presentationml.comments+xml"/>
  <Override PartName="/ppt/comments/comment23.xml" ContentType="application/vnd.openxmlformats-officedocument.presentationml.comments+xml"/>
  <Override PartName="/ppt/comments/comment37.xml" ContentType="application/vnd.openxmlformats-officedocument.presentationml.comments+xml"/>
  <Override PartName="/ppt/comments/comment35.xml" ContentType="application/vnd.openxmlformats-officedocument.presentationml.comments+xml"/>
  <Override PartName="/ppt/comments/comment3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ang Dong" initials="PD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5-04-24T09:22:52.912000000" idx="1">
    <p:pos x="5649" y="2223"/>
    <p:text>适当把文本框加宽，让一句话尽量在一行内出现</p:text>
  </p:cm>
</p:cmLst>
</file>

<file path=ppt/comments/comment23.xml><?xml version="1.0" encoding="utf-8"?>
<p:cmLst xmlns:p="http://schemas.openxmlformats.org/presentationml/2006/main">
  <p:cm authorId="0" dt="2015-04-24T09:23:39.286000000" idx="2">
    <p:pos x="5346" y="2681"/>
    <p:text>这种情况下，尽量把术后护理另起一页</p:text>
  </p:cm>
</p:cmLst>
</file>

<file path=ppt/comments/comment35.xml><?xml version="1.0" encoding="utf-8"?>
<p:cmLst xmlns:p="http://schemas.openxmlformats.org/presentationml/2006/main">
  <p:cm authorId="0" dt="2015-04-24T09:25:10.281000000" idx="3">
    <p:pos x="1241" y="886"/>
    <p:text>删除编号</p:text>
  </p:cm>
</p:cmLst>
</file>

<file path=ppt/comments/comment36.xml><?xml version="1.0" encoding="utf-8"?>
<p:cmLst xmlns:p="http://schemas.openxmlformats.org/presentationml/2006/main">
  <p:cm authorId="0" dt="2015-04-24T09:25:45.776000000" idx="4">
    <p:pos x="1137" y="886"/>
    <p:text>删除编号</p:text>
  </p:cm>
</p:cmLst>
</file>

<file path=ppt/comments/comment37.xml><?xml version="1.0" encoding="utf-8"?>
<p:cmLst xmlns:p="http://schemas.openxmlformats.org/presentationml/2006/main">
  <p:cm authorId="0" dt="2015-04-24T09:25:29.547000000" idx="5">
    <p:pos x="1241" y="886"/>
    <p:text>删除编号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CF54-4D8D-4CB8-A88A-EF28AEB6B94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BEE4-8F3B-407B-AC6A-2CD5F1439EB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6A04-0430-4DB7-85F8-B98D7918390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76B7-7E87-4B05-A18D-710F566BF22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F027-8627-4D45-8024-B229F9F7D65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08DA-38D7-48AA-AA33-53553723832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CEBF-5850-4F1E-B19C-C220AF974D5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69EF-D177-4074-913C-772C57DAFD3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F58F-2D4E-4A26-A8B6-96ECF3C30E3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007F-560B-40ED-8DDD-4713DDB8BBF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8CF4-63B8-41EC-9CBE-15ADAE80FD9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5D3A-304A-48A9-8FF8-EA41ED5AB4C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D931-61CB-4E0A-A1C4-0E3AC6A420A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FF6C-DB14-4E3E-8890-F7B74F6508C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D9DA-2134-4B43-9582-A78A225DBCB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1BD3-0992-457D-93ED-F5F9DCD4EA7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5CF7-C246-4509-83C7-CDD64404199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3C19-8BA4-431D-BDB5-31D20C7FD0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3E1F2-86F3-4607-BC7A-1D66D711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CA17F-C0DE-40EF-AAE9-EBB54E42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CB18A-F564-4B9A-89B6-B2A1B580A3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93F65-2BC4-402D-8BF7-D326861A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F9545-6F06-488E-89A9-7E44B46D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A6CEF-D47A-4309-9F55-ACE3E800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26625-4061-452A-B4A1-39931E78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D6548-833C-451B-A9E6-A4CF9E56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1D73C-FDFC-4EE4-ACC5-96FCA8AB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9D8B1-724F-475E-94DC-F4E6DA9C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B7A0-F5D3-4070-9934-D8D6B356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EA82-89F5-40C3-879A-EED85D30AE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6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7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房疾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热敷、药物外敷或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温和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抗生素，高热者给予物理或药物降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切开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通畅，注意观察引流液的颜色、性质和量的变化，及时更换浸湿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乳头凹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养成良好哺乳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发现右乳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右乳房外上方可见一个局部皮肤凹陷，右侧乳头略高于左侧乳头。右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部位可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×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不易推动，与乳房皮肤无粘连，无乳头溢液。右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×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，表面光滑，可活动，质地较硬。左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右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×1.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肿块影，边缘有细小毛刺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：浸润性低分化导管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瘦、乏力、贫血、发热等恶病质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早期发现乳腺癌最有效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确定肿块性质最可靠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发病的相关因素、临床表现、治疗原则和预防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乳腺癌发病的相关因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乳腺囊性增生症的病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房疾病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、多疗程、联合化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于保留乳房的乳腺癌手术后患者更是重要的治疗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分泌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乳腺癌，在经历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疗程的术前化疗后，肿块明显缩小，现拟行右乳腺癌改良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术后患侧上肢活动受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加压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引流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脱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1196640"/>
            <a:ext cx="41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范围关节活动包括手臂摇摆运动、爬墙运动、划圈运动、滑轮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92440" cy="4545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265720" y="5886360"/>
            <a:ext cx="2817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上臂全范围关节活动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视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是乳腺实质的良性增生性疾病，多见于中年女性。本病与卵巢功能失调引起的激素分泌紊乱有关，造成乳腺实质增生过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限性乳腺囊性增生症患者，应在月经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内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部病灶有恶性病变可能时，应尽早手术切除肿块并做病理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腺体增生及雌激素水平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用宽松胸罩托起乳房，以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观察病情变化，定期进行乳房自我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主要为乳汁淤积和细菌入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以乳房局部红肿热痛为主。随着炎症发展，疼痛变为搏动性，后期炎症病灶可发展为乳房脓肿。患者可有全身感染中毒表现，常伴有患侧腋窝淋巴结肿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控制感染，排空乳汁，脓肿形成后应切开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减轻疼痛，降温和控制感染。做好脓肿切开引流护理。预防的关键是纠正乳头凹陷，养成良好哺乳习惯，并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 病因不明，相关因素有内分泌、饮食、遗传、环境和生活方式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 早期表现为单发乳房肿块，无痛、质硬、活动度差、边界不清。可有乳房外形改变。淋巴转移常导致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术前应关注患者的心理反应。术后注意观察伤口及引流情况，及时发现出血、患侧上肢水肿、皮瓣下积液、皮瓣坏死等并发症，加强患侧上肢功能锻炼，恢复患者的自理能力。另外，应指导健康女性以及患者进行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内分泌失调引起乳腺实质过度增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乳房周期性胀痛和乳房肿块为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解释说明，消除患者心理顾虑。减轻乳房胀痛。遵医嘱服用药物。定期检查和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  ：乳房胀痛，有压痛性肿块，常伴有患侧腋窝淋巴结肿大和触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：寒战、高热、脉搏加快、食欲下降等全身感染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哺乳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过小或凹陷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汁过多或婴儿吸乳过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烦躁、焦虑，并有挫败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空乳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脓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房炎症、肿胀、脓肿切开引流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或细菌毒素进入血液循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围产期乳房保健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52:08Z</dcterms:modified>
  <cp:revision>97</cp:revision>
  <dc:subject/>
  <dc:title>内科护理学</dc:title>
</cp:coreProperties>
</file>